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7229-204B-4C54-A935-7B950E44B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4C5D-CA81-4097-8AB4-AE5F977F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5D34-DD4A-41C4-9EAD-EB053465C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1A2D-FE3F-4188-B545-DF19B00EC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4A51-BA1A-43ED-A744-CB96C7F1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A7DE-A704-4FEB-8EC8-5888731E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F9A9-1C71-435A-823B-B18BCDF4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00B5-F99E-4851-BDA1-39E919AD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933E-8328-4C09-B5A9-32A84A90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0D62-FF1B-4001-ACEC-CCA158F6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E30D-7F50-4484-9758-EE9069FD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B9A8-EDE0-4EA2-9625-AF27A94F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A39D-7ED4-491D-ABCC-C95E17097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ess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o’s and Don’ts to dressing at San L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l shirts must be tucked into pants and sh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Sagging and bagging is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r a be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the pants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eadgear is for 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nglasses are cool for the beach, but not for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ve the hats, rags, and bandanas for Friday 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Too Tight, Too short, or Too Revealing</a:t>
            </a:r>
            <a:br>
              <a:rPr sz="4000"/>
            </a:b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Too much for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Give our boys a break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thing with holes, see through materials, strapless tops, tank and spaghetti straps are way too distra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thing showing cleavage, bellies, or lower is too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tight and Righ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r belts appropr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pants and skirts at wais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shoes tied and fast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Violence, Intimidation, Sexually Demeaning Messages, and Drug Use Mess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thing and items worn with these messages is just not O.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5:26:43Z</dcterms:created>
  <dc:creator>LCS_user</dc:creator>
  <dc:description/>
  <dc:language>en-US</dc:language>
  <cp:lastModifiedBy>LCS_user</cp:lastModifiedBy>
  <dcterms:modified xsi:type="dcterms:W3CDTF">2008-08-21T17:06:22Z</dcterms:modified>
  <cp:revision>5</cp:revision>
  <dc:subject/>
  <dc:title>Dress Code</dc:title>
</cp:coreProperties>
</file>